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2EF6-C538-4D3C-AEAE-0079BE2F1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15C1-D90E-401C-933E-C7B1A6F7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3EEEE-CA50-4B3E-9617-5D5FA4FD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C923-898D-4107-8D07-DA956135AF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CF40-D8FE-4C58-9E6C-2C9DCF17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C0AB-BCD1-41A3-A5C1-A534F196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76B66-7F64-4B65-8064-454B438C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4659-E633-4CD9-A81B-DDA2CE0C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175B-4DED-4253-8F85-E00908AD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4223C-40D4-47AC-9B53-9019755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CBBE-172F-4FE8-A3E5-8FD72079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28E5-E47F-4FBD-B2EF-94DDE73B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177801-17FB-41DF-8AED-7891B600A06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ESCOLA ESTADUAL MARIA JOS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898989"/>
                </a:solidFill>
                <a:latin typeface="Calibri"/>
              </a:rPr>
              <a:t>PROJETO DE INFORMÁTICA EDUCATI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898989"/>
                </a:solidFill>
                <a:latin typeface="Calibri"/>
              </a:rPr>
              <a:t>PLANO DE 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METODOLOG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metodologia terá um caráter colaborativo e interdisciplinar, buscando aproximar as áreas de estudo através da tecnolog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         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 desenvolvimento do projeto será incorporado pelos professores multiplicadores da sala de tecnologia educacion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mover o desenvolvimento da digitação através de textos de correspondência, bate-papo na internet, passar e receber e-mail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571680"/>
            <a:ext cx="8229600" cy="73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ficinas de Informática para professores que ainda não dominam a máquina e ajuda individual quando solicitada pelos coleg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riação de textos coletivos, com os computadores em rede, estimulando a solidariedade e a colaboração mútua entre e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poio aos projetos de aprendizagem, combinados entre professores e seus alun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ivulgação, na comunidade escolar e no site da Escola, experiências e atividades inovador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OBJETIV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Tendo como questionamento básico deste projeto educacional, buscar evidenciar a importância do computador como recurso didátic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abilizar o uso da informática nas escolas estaduais, possibilitando assim a inclusão dos professores, dos funcionários e da comunidade escolar no novo mundo que se apresenta através da tecnologia da informaçã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8760" y="13032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Objetivo G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Analisar o uso do computador como recurso didático com a finalidade de auxiliar na construção do conhecimento dos educand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Incentivar os professores a desenvolver ou formular questões, equacionar problemas, lidar com a incerteza, testar hipóteses, planejar, desenvolver e documentar seus projetos de pesquisa. A prática e a reflexão sobre a própria prática são fundamentais para que os educadores possam dispor de amplas e variadas perspectivas pedagógicas em relação aos diferentes usos da informática na escol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Objetivo Específic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portunizar aos professores das séries iniciais uma forma de aprendizado lúdico, através de jogos educativos que desenvolvam a fixação de conteúdos desenvolvidos em sala de aula e outras habil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Verificar como se operam as interações sociais no ambiente mediado por computad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tilizar o computador como meio para pesquisa escolar através da Intern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57168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avorecer a inclusão digital, através da utilização do computador como meio para elaboração de trabalhos escolares, de acordo com propostas trazidas pelos professores de turmas ou disciplinas específ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timular o interesse e participação na produção do conhecimento de informática educacion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714240"/>
            <a:ext cx="8229600" cy="67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stimular os professores a produzir e compartilhar seus conhecimentos, na comunidade escolar e na web, pois não há essa prática entre e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ientar professores e pessoas da comunidade a usar o computador como ferramenta para compreender o mundo e agir sobre el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portunizar aos professores situações que os levem a escolher opinar, criticar, dizer o que pensam e sentem sobre conhecimentos da Informática na Educ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ÚBLICO AL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ofessores e administrativos da rede estadual da Escola Estaduais do município de Anaurilândia-MS,  atividades desenvolvidas nos três turno durante o horário de aula desenvolvendo projeto e diversas atividades utilizando a STE  para pesquisar, desenvolver projetos e desta forma ocorre a sua inclusão digi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AVALIAÇÃO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a avaliação será considerado o fato de que a tarefa de usar a informática na prática da aprendizagem de uma forma adequada, isto é, inovadora e criativa, ainda não é fácil para a maioria dos professores de nossa escola. Pensamos que esse é um processo que requer tempo, até que os professores questionem seus paradigmas pedagógicos, se apropriem das ferramentas da informática, e coloquem-nas a serviço da aprendizagem dos estud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642960"/>
            <a:ext cx="8229600" cy="75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or essa razão este projeto foi pensado para o ano de 2009, podendo estender-se até que o uso da informática, no sentido da Inclusão Digital seja uma prática cotidiana por parte da maioria dos professores e alunos desta unidade escola. E será adaptada ao contexto e à realidade dos projetos ou atividades realizadas na Escola, e poderá incorporar as mudanças necessárias requeridas durante o processo de cada projeto ou ativid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-538200"/>
            <a:ext cx="82296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ROJETO DE INFORMÁTICA EDUCATIV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QUIPE - 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OFES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Luciano de Mazzi Martins Falc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ubens Aparecido de Mo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lvio Alves da Sil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DURAÇÃ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meiramente, são previstos um ano letiv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continuidade ou não do projeto e/ou a realização de subprojetos, que vão depender da execução dos objetivos aqui propostos, do contexto e das necessidades da Comunidade Escol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Calibri"/>
              </a:rPr>
              <a:t>ESCOLA ESTADUAL MARIA JOS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RONOGRAMA DE CURSOS  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SALA DE TECNOLOGIAS EDUCACIONAIS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ursos a serem ministrados no ano de 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CRONOGR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57200" y="1600200"/>
            <a:ext cx="8231040" cy="4680000"/>
            <a:chOff x="457200" y="1600200"/>
            <a:chExt cx="8231040" cy="4680000"/>
          </a:xfrm>
        </p:grpSpPr>
        <p:sp>
          <p:nvSpPr>
            <p:cNvPr id="76" name=""/>
            <p:cNvSpPr/>
            <p:nvPr/>
          </p:nvSpPr>
          <p:spPr>
            <a:xfrm>
              <a:off x="457200" y="1600200"/>
              <a:ext cx="2685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CURSO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43160" y="1600200"/>
              <a:ext cx="8575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ABRI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00680" y="1600200"/>
              <a:ext cx="10000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MAI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00760" y="1600200"/>
              <a:ext cx="10713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JUN/JU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72120" y="1600200"/>
              <a:ext cx="10000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AGO/S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2200" y="1600200"/>
              <a:ext cx="9288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OUT/NOV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01000" y="1600200"/>
              <a:ext cx="6858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DEZ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1971720"/>
              <a:ext cx="268596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Wikispaces/Movie Maker/Scann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43160" y="1971720"/>
              <a:ext cx="85752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00680" y="1971720"/>
              <a:ext cx="100008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00760" y="1971720"/>
              <a:ext cx="107136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72120" y="1971720"/>
              <a:ext cx="100008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72200" y="1971720"/>
              <a:ext cx="92880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01000" y="1971720"/>
              <a:ext cx="68580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2341440"/>
              <a:ext cx="268596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Data/Show Power Point –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2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uso do Data Show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como montar e criar uma apresentação no Power Poi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43160" y="2341440"/>
              <a:ext cx="85752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00680" y="2341440"/>
              <a:ext cx="100008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00760" y="2341440"/>
              <a:ext cx="107136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72120" y="2341440"/>
              <a:ext cx="100008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72200" y="2341440"/>
              <a:ext cx="9288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2341440"/>
              <a:ext cx="6858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3622680"/>
              <a:ext cx="268596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Internet – E-mail – Blog – Orkut :  uso do Orkut como ferramenta pedagógica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43160" y="3622680"/>
              <a:ext cx="85752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00680" y="3622680"/>
              <a:ext cx="100008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0760" y="3622680"/>
              <a:ext cx="107136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72120" y="3622680"/>
              <a:ext cx="100008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72200" y="3622680"/>
              <a:ext cx="92880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1000" y="3622680"/>
              <a:ext cx="68580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4352760"/>
              <a:ext cx="268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indows XP, Digitação, Microsoft Word, Microsoft Exce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43160" y="4352760"/>
              <a:ext cx="857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00680" y="4352760"/>
              <a:ext cx="1000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00760" y="4352760"/>
              <a:ext cx="1071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72120" y="4352760"/>
              <a:ext cx="1000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2200" y="4352760"/>
              <a:ext cx="9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1000" y="4352760"/>
              <a:ext cx="685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5084640"/>
              <a:ext cx="268596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Linux Educacional – para iniciant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3160" y="5084640"/>
              <a:ext cx="85752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00680" y="5084640"/>
              <a:ext cx="100008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0760" y="5084640"/>
              <a:ext cx="107136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72120" y="5084640"/>
              <a:ext cx="100008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72200" y="5084640"/>
              <a:ext cx="92880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01000" y="5084640"/>
              <a:ext cx="68580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5456160"/>
              <a:ext cx="2685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Portfólio: A arte de criar um portfólio usando os aplicativos - Print Artist, Power Point e Movie Mak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43160" y="5456160"/>
              <a:ext cx="8575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00680" y="5456160"/>
              <a:ext cx="10000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00760" y="5456160"/>
              <a:ext cx="10713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72120" y="5456160"/>
              <a:ext cx="10000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72200" y="5456160"/>
              <a:ext cx="928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1000" y="5456160"/>
              <a:ext cx="685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43160" y="1600200"/>
              <a:ext cx="180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0076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2120" y="1600200"/>
              <a:ext cx="180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72200" y="1600200"/>
              <a:ext cx="180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100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971720"/>
              <a:ext cx="822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3414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6226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435276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50846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545616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680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627840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pedagogia dos Projetos de Aprendizagem e/ou de Ensino, mediados pela Informática, era quase inexistente no contexto de nossa escola. A informática na Escola vai avançar em relação ao uso da STE e de outras ferramentas. O site da Escola começou a ter mais espaço, tornando-se mais bem estruturado, A escola recebeu os equipamentos: computadores, impressoras projetores aparelho de DVD aparelho de som notebook e assistência técnic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571680"/>
            <a:ext cx="8229600" cy="70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arecíamos de assessoria técnico-pedagógica para o uso criativo e inovador dessa tecnologia e que favorecesse ações protagonistas. O incentivo aos professores que ainda não usam a informática educacional, melhor registro das atividades com projetos, mais divulgação na comunidade escolar e publicação das mesmas. Essas serão tarefas prioritárias dos projetos para o ano: incentivo, divulgação, registro e publicação na we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57168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 tecnologias informáticas vêm transformando a vida humana ao possibilitar novas formas de pensar, trabalhar, viver e conviver no mundo atual, por isso torna-se uma exigência que as instituições de ensino se apropriem dessas novas formas de desenvolvimento, também o acesso à informação é a introdução dos computadores na educ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642960"/>
            <a:ext cx="8229600" cy="79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presente projeto é uma tentativa de tornar realidade uma demanda que vem crescendo cada dia mais: a utilização da informática na construção do conhecimento. Acreditamos que este é o caminho a ser trilhado com muito esforço na procura de uma educação que consiga conciliar a tradição milenar do mestre-educador como coordenador da produção do conhecimento com a utilização da informática enquanto ferramenta de seu trabalho no limiar do novo sécu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JUSTIFICATIV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escola é um local onde os conhecimentos são sistematizados e o educando desenvolve o conhecimento científico. Este contexto envolve o professor e o aluno, isto é quem ensina e quem aprende, pois ambos interagem neste proces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571680"/>
            <a:ext cx="8229600" cy="76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informática com finalidade educacional deve estar presente nos mais variados momentos da vida escolar, como ferramenta integrada às áreas do conhecimento, as metodologias, aos projetos pedagógicos, à administração e secretaria escolar. Não deve existir um tempo específico para uso da informática, mas sim vários tempos onde sua utilização é um meio facilitador das ações pedagógicas, não constituindo uma finalidade em si, mas uma ferramenta, cuja função é definida no contexto de sua utiliza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642960"/>
            <a:ext cx="8229600" cy="62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Hoje a Informática é atraente, pois consegue abarcar uma gama de informações que antes eram disponíveis em inúmeras bibliotecas ou centros de pesquisa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Trazer este recurso para dentro da escola, para o seu cotidiano, é estimular e qualificar o processo de ensino-aprendizage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Tendo como questionamento básico deste projeto educacional, buscar evidenciar a importância do computador como recursos didáticos são os seguintes os objetivos deste projet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sse projeto visa desencadear um processo interativo pedagógico-tecnológico que favorece conhecimentos afins, ampliando o repertório vocabular e cognitivo numa ação-reflexão entre os mesm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ANO</dc:creator>
  <dc:description/>
  <dc:language>en-US</dc:language>
  <cp:lastModifiedBy>LUCIANO</cp:lastModifiedBy>
  <cp:revision>0</cp:revision>
  <dc:subject/>
  <dc:title>ESCOLA ESTADUAL MARIA JOSÉ</dc:title>
</cp:coreProperties>
</file>